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DE9-D92A-4DF9-AC03-8F3E91CD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7F4-A4D7-4F4A-B289-A19C5124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852-FE07-4094-AF5B-496D260C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28A-FCDA-4105-BD3D-3D491A08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1307-058E-4301-817A-E8F56778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A10E-DCF9-492A-8429-9D0E21F6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EC35-DC6A-4193-AC89-35A2FF7D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41C8-9986-429A-8B86-BB22BC60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862B-E48A-4CB4-8DC8-0FDD241A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C29C-C734-4C56-AF5B-9016DED3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0102-ACDD-439B-9D20-C13A4324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40B-9A02-4876-83EF-6A7D89AC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A083-F77F-4499-9907-4F82B521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284-60DB-4320-A134-3948F279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FE63-1C4C-4575-B903-831D787E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7AAC-C60C-44AC-973B-C6C7DF55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6F0F-783A-4E8C-809D-2937A478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BEC3-9476-4C3F-BE19-1EA4EBCC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A43B-F648-4F1E-8BF0-635D9C1B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A0D7-15FB-4877-AAD5-C14A52CF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5992C-E7C2-4DBB-A41A-44505161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7AE6-B29E-4C25-B53F-E83605AE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49A-A190-497C-9862-3CEF6788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BD97-9536-4CCB-8C31-3072F05B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7291-CBA5-4CD9-AF45-389E401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1F08-1D78-4A85-90AF-5B2CB96A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61BF-ACEC-4748-9B0F-6C2533B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A2A7-EE3F-4A13-9CA9-690F7C05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10D1-554D-471B-AA74-F54622E7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5DA2-7D23-4A5E-B499-8D7A0002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74D2-E1C2-4C28-83A6-DBFEF9D9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43C1-3D5F-4D4C-9345-EF07F3A9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B82E-732C-4275-8D8C-A667E592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7FE-11D0-4C01-BFFC-CC69E2F5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AA51-4BE0-4EF0-B25F-706791D0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3F5A3-4F26-4897-8CCD-7CD39CA8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CD172-0E3A-4CCE-B6D0-76848FA8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07AE2-83D5-4FA7-AE0C-32CB2455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D91CA-2991-4797-92DB-3E857D86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7955-A8F0-4422-A74D-5291F6E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D275-1D1D-4C1F-818B-85F4511D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764A-623E-49D7-BB9D-76ECC6DA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4F0C-A55A-464E-AD81-720BEB1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10D8E-49FF-4D97-85AA-66167C50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4EE-3CF5-4E30-8378-2F677808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EEF3D-04E4-44C6-9288-36B8E1F8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46640-54AC-4C81-9B6E-55D11363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8E1F3-6F9C-4EF1-8D90-F7E5DC37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D96E-322E-4638-BC2B-9EB5173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0267D-AEEC-44A3-8923-1EECBDE5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49D32-5C07-4923-82D2-56128ED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985A8-16BB-4724-B68F-49E740B5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EE8A6-E6E6-496D-9EE7-6E8B71A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30B1-C5D3-4304-8B87-61820C81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B1CB5-3BD3-4CC2-879C-F6E77885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A8C-92E1-447D-BB40-A75EA9B0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F2F2D-B057-4D5B-A73A-FFC5459D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103-3435-4D1E-A067-FCA2D6B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7D9-34E6-4134-97F6-5094941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854-5401-464E-A5BA-2D087B5E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A98A-8C61-4489-9218-A9E444F6BB5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F5B-DA03-40F5-BB69-831AD72F56C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24E2-0FA7-4CA9-9273-A4340C34635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8C01-E92B-4DE1-B8C3-A9B0AFA2B19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7F2-8E52-452E-8113-C71D07BC439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1720" y="685440"/>
            <a:ext cx="740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bulous Photostory and Vocaroo Pro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31720" y="2590920"/>
            <a:ext cx="7407000" cy="228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Lakeview Academy Summer Institu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cial Need Childr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lp with speech 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 instructions to children who need oral dire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children may be able to communicate better giving oral respon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line Slidesho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ock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hotope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fore You Begi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nk about your project and what you want to accomplis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Photostor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great for creating a present for the parents with photos or art wor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Vocaroo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 a quick voice recording which can be used numerous ways in the classroo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Online Slideshow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e fun for creating slide shows to post online.  Embed in your blog or wik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eating a Photostory Proje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47920" y="1447560"/>
            <a:ext cx="748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 Photost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ort pictures and titl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x red eye, color issues, and cr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text and eff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nar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stomize motion/transi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background music or create your ow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av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ve “project” – allows you continue working on your proj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ve “story” – will put your project in final for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rn your final story to a CD and send it home as a Christmas or year end gift to par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705720" cy="41907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caroo Pro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752480" y="1371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and Recor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caroo – its free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te an account if you would like but it is not necess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6324480" cy="39528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ter you record you can e-mail it, embed it in a wiki or blog, or link to the internet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-mail 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s love hearing from their children during the 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a special time to have children tell their parents what they are doing or just that they love th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quick, easy and the parents will think you’re the greates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assroom 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ing fluency – “reading smoothly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o practice foreign language  pronunci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bed welcome messages, messages for parents, news, or assignments, in classroom blogs and wik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bed students voices reading journal entries, commenting on a project,  or “what we did at school today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9:38:30Z</dcterms:created>
  <dc:creator>Fac - Montgomery,Bruce</dc:creator>
  <dc:description/>
  <dc:language>en-US</dc:language>
  <cp:lastModifiedBy>Fac - Montgomery,Bruce</cp:lastModifiedBy>
  <dcterms:modified xsi:type="dcterms:W3CDTF">2009-07-26T18:13:00Z</dcterms:modified>
  <cp:revision>50</cp:revision>
  <dc:subject/>
  <dc:title>Slide 1</dc:title>
</cp:coreProperties>
</file>